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9E3-F17B-42B1-ABD1-583ABF7D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89B-B8A3-4901-95E6-FF793975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36A-4988-414F-B9FF-799A887F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B7B-BC79-4D97-ABCD-D64FBB1E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0B8-7261-4FF3-9AE5-23A8B649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609-B3EC-4924-8AC3-5AE1EDD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7908-338B-4F95-8A71-1DB829AC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6E4A-9F41-4DB7-BBEA-316DC09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DA7-4831-4D4E-ABEB-764691F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7115-0842-40A5-9C50-DFAB2C66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E339-B0F8-4363-943B-81D7C6E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66D-3DD7-4BE3-82B3-6555E9C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4B3A-C39E-4437-AFD6-098F98EF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0BC0-D61C-4F22-9FD8-FBF5167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6E1-260F-4B93-85B1-FB1B390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8715-8BA7-487E-B016-5E14B064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9DC5-1E4F-4FC5-8363-A53DF361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EEA-4655-404C-9786-43A3FC21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612-CC2F-47B3-B080-2E5F592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81A-75A6-43E8-8D37-E145F62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F50-708A-405A-B7ED-ED4A00A6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FB0-0E30-41D6-A9DD-B840E53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D9E-760B-4C5E-BB4B-9F4DFF49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2D3-F155-4F71-A532-F0C7789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0303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FB8F-3E55-44FC-899C-FB7B4F44C0E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943C-A84E-46A1-8380-1C5BDCF2F418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Arial"/>
              </a:rPr>
              <a:t>Darkness a Bird of Prey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esentation by Cory Jarre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title is Darkness a Bird of Prey. I think that the title is referring to death, because darkness and death are usually associated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aphr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 the poem, the writer ask what happened to his life before, and talks about what led up to him/her getting AIDS and then ends on a metaphor involving a doo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not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taphor – Most of the poem is a metaphor. Example(s): “The hundred knocks on the door / To my thirties-old life / And th’impatient question “Is anyone there?””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ssonance – Shudder, utter, and mutter in the last two lines “No strength to shudder, to utter, to / Scream YES of painfully mutter “Go Away”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notation Pt.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usion – “”Get thee behind me”?” is an allusion to The Bibl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ttitu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speaker’s attitude is basically very depressed, as most dying people’s ar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hif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re were no shifts in the poem really. It stayed sad the whole way through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(again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fter reading the poem, what I said about the title still seems right to m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 think the theme is to not go and do stupid things when you’re younger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0:56:55Z</dcterms:created>
  <dc:creator>Cory</dc:creator>
  <dc:description/>
  <dc:language>en-US</dc:language>
  <cp:lastModifiedBy>Classroom/Lab</cp:lastModifiedBy>
  <dcterms:modified xsi:type="dcterms:W3CDTF">2010-11-17T19:22:17Z</dcterms:modified>
  <cp:revision>3</cp:revision>
  <dc:subject/>
  <dc:title>Darkness a Bird of Prey</dc:title>
</cp:coreProperties>
</file>